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8.jpeg" ContentType="image/jpeg"/>
  <Override PartName="/ppt/media/image36.png" ContentType="image/pn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F285-8720-4789-8E22-D2F8CF4C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98C-FAE1-4A6D-8069-52AC5BE5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7BB-1EAE-49F3-9C9A-6F4DB282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1B37-8788-4E90-8198-0970ABE2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E42-07FA-4228-B37F-75B25C41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ADF-660E-4447-B68C-AFD575F8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2735-0292-469F-8EEF-4C2CE4BA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C30-0230-4B1B-8F2B-C6CB561D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C5D-20AD-466C-93FF-0C82CD73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A36-83F9-423A-BE49-A55B067B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4D05-38FE-4CB9-8EC2-7246263F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3A2-C7A8-4077-9FF0-1AF49959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79BD-B68E-42AF-BC14-CB6FBEFE0A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Eduard_Uspensky_2.jpg?uselang=ru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7"/>
          <p:cNvPicPr/>
          <p:nvPr/>
        </p:nvPicPr>
        <p:blipFill>
          <a:blip r:embed="rId1"/>
          <a:stretch/>
        </p:blipFill>
        <p:spPr>
          <a:xfrm>
            <a:off x="1073160" y="3048120"/>
            <a:ext cx="8070840" cy="380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тешествие на литературном поезде  по книг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дуарда Успенского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Крокодил Ге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его друзь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35816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ценари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85840" y="380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о своим книгам он писал сценарии к мультфильма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Рыжий, рыжий, конопатый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Пластилиновая ворон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Крокодил Гена и его друзь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Трое из Простоквашин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Следствие ведут колобк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Фиксик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63440" y="1523880"/>
            <a:ext cx="3722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Поэ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581280" y="533520"/>
            <a:ext cx="55627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пробовал Эдуард Николаевич  и стихи сочиня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 превзошел ожидания – прекрасный сборник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«Разноцветная семей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36576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Eduard Uspensky 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380880"/>
            <a:ext cx="2381400" cy="35719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2"/>
          <p:cNvSpPr/>
          <p:nvPr/>
        </p:nvSpPr>
        <p:spPr>
          <a:xfrm>
            <a:off x="990720" y="411480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сбыться планам помешала болезнь, а 14 августа 2018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дуард Успенский у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му было 8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дуард Успенский. Кто же о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2095560" cy="32385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22147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5" descr=""/>
          <p:cNvPicPr/>
          <p:nvPr/>
        </p:nvPicPr>
        <p:blipFill>
          <a:blip r:embed="rId4"/>
          <a:stretch/>
        </p:blipFill>
        <p:spPr>
          <a:xfrm>
            <a:off x="2481120" y="3352680"/>
            <a:ext cx="2633760" cy="335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Picture 6" descr=""/>
          <p:cNvPicPr/>
          <p:nvPr/>
        </p:nvPicPr>
        <p:blipFill>
          <a:blip r:embed="rId5"/>
          <a:stretch/>
        </p:blipFill>
        <p:spPr>
          <a:xfrm>
            <a:off x="4648320" y="1143000"/>
            <a:ext cx="213336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Picture 7" descr=""/>
          <p:cNvPicPr/>
          <p:nvPr/>
        </p:nvPicPr>
        <p:blipFill>
          <a:blip r:embed="rId6"/>
          <a:stretch/>
        </p:blipFill>
        <p:spPr>
          <a:xfrm>
            <a:off x="6858000" y="1143000"/>
            <a:ext cx="223056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Picture 8" descr=""/>
          <p:cNvPicPr/>
          <p:nvPr/>
        </p:nvPicPr>
        <p:blipFill>
          <a:blip r:embed="rId7"/>
          <a:stretch/>
        </p:blipFill>
        <p:spPr>
          <a:xfrm>
            <a:off x="5029200" y="4267080"/>
            <a:ext cx="22860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9" descr=""/>
          <p:cNvPicPr/>
          <p:nvPr/>
        </p:nvPicPr>
        <p:blipFill>
          <a:blip r:embed="rId8"/>
          <a:stretch/>
        </p:blipFill>
        <p:spPr>
          <a:xfrm>
            <a:off x="7086600" y="4572000"/>
            <a:ext cx="189540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90" name="gudok_parovoza.mp3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3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1" descr="ar128181400270473"/>
          <p:cNvPicPr/>
          <p:nvPr/>
        </p:nvPicPr>
        <p:blipFill>
          <a:blip r:embed="rId1"/>
          <a:stretch/>
        </p:blipFill>
        <p:spPr>
          <a:xfrm>
            <a:off x="3048120" y="2666880"/>
            <a:ext cx="3581280" cy="35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___1_~1"/>
          <p:cNvPicPr/>
          <p:nvPr/>
        </p:nvPicPr>
        <p:blipFill>
          <a:blip r:embed="rId2"/>
          <a:stretch/>
        </p:blipFill>
        <p:spPr>
          <a:xfrm>
            <a:off x="6477120" y="914400"/>
            <a:ext cx="2666880" cy="3809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-_1_~1"/>
          <p:cNvPicPr/>
          <p:nvPr/>
        </p:nvPicPr>
        <p:blipFill>
          <a:blip r:embed="rId3"/>
          <a:stretch/>
        </p:blipFill>
        <p:spPr>
          <a:xfrm>
            <a:off x="152280" y="3886200"/>
            <a:ext cx="2746440" cy="279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162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Угадайгра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8224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Очень скромная и воспитанная девочка , круглая отличница. У нее тоже не было друзей, потому что она была слишком уж тихой и незаметной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ру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сканирование0006 (2)"/>
          <p:cNvPicPr/>
          <p:nvPr/>
        </p:nvPicPr>
        <p:blipFill>
          <a:blip r:embed="rId1"/>
          <a:stretch/>
        </p:blipFill>
        <p:spPr>
          <a:xfrm>
            <a:off x="2666880" y="1447920"/>
            <a:ext cx="3652920" cy="4843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01000" cy="41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Как-то вечером на огонёк зашёл высокий рыжий гражданин с блокнотом в руках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орреспонде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сканирование0005"/>
          <p:cNvPicPr/>
          <p:nvPr/>
        </p:nvPicPr>
        <p:blipFill>
          <a:blip r:embed="rId1"/>
          <a:stretch/>
        </p:blipFill>
        <p:spPr>
          <a:xfrm>
            <a:off x="2819520" y="1295280"/>
            <a:ext cx="3314520" cy="510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ить себя, как я понял прочита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узнать о писателе са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бедить других ребят, кто ещё не прочитал эти книги обязательно их про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600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 зоопарке жил очень злой и глупый зверь. Его по воскресеньям кормила Шапокляк, стараясь приручить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осорог Птенч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сканирование0006"/>
          <p:cNvPicPr/>
          <p:nvPr/>
        </p:nvPicPr>
        <p:blipFill>
          <a:blip r:embed="rId1"/>
          <a:stretch/>
        </p:blipFill>
        <p:spPr>
          <a:xfrm>
            <a:off x="1782720" y="1600200"/>
            <a:ext cx="5576760" cy="4525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2819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рязный, никому ненужный зверь, который сидел на мостовой и тихонько плака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обачка Тоб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сканирование0007"/>
          <p:cNvPicPr/>
          <p:nvPr/>
        </p:nvPicPr>
        <p:blipFill>
          <a:blip r:embed="rId1"/>
          <a:stretch/>
        </p:blipFill>
        <p:spPr>
          <a:xfrm>
            <a:off x="2743200" y="1447920"/>
            <a:ext cx="3503520" cy="48006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олстый крокодил, который работал в зоопарке во вторую смену и любил читать книги. Как его зовут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рокодил Вале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сканирование0008"/>
          <p:cNvPicPr/>
          <p:nvPr/>
        </p:nvPicPr>
        <p:blipFill>
          <a:blip r:embed="rId1"/>
          <a:stretch/>
        </p:blipFill>
        <p:spPr>
          <a:xfrm>
            <a:off x="1676520" y="1752480"/>
            <a:ext cx="5919840" cy="4050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В комнату вошёл большой-пребольшой лев в пенсне и шляпе». Как его звал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Лев Чанд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сканирование0009"/>
          <p:cNvPicPr/>
          <p:nvPr/>
        </p:nvPicPr>
        <p:blipFill>
          <a:blip r:embed="rId1"/>
          <a:stretch/>
        </p:blipFill>
        <p:spPr>
          <a:xfrm>
            <a:off x="2362320" y="1295280"/>
            <a:ext cx="4333680" cy="510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666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ленькая, очень серьёзная девочка, которая работает в детском театр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а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сканирование0010"/>
          <p:cNvPicPr/>
          <p:nvPr/>
        </p:nvPicPr>
        <p:blipFill>
          <a:blip r:embed="rId1"/>
          <a:stretch/>
        </p:blipFill>
        <p:spPr>
          <a:xfrm>
            <a:off x="2971800" y="1371600"/>
            <a:ext cx="3106800" cy="510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Успенскогра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_________________49de67dd220c0"/>
          <p:cNvPicPr/>
          <p:nvPr/>
        </p:nvPicPr>
        <p:blipFill>
          <a:blip r:embed="rId1"/>
          <a:stretch/>
        </p:blipFill>
        <p:spPr>
          <a:xfrm>
            <a:off x="1828800" y="1828800"/>
            <a:ext cx="5867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481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В комнату просуну-лась какая-то странная голова с короткими рожками и длинными подвижными ушами. Она понюхала цветы, стоявшие на окне»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Жирафа Аню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сканирование0013"/>
          <p:cNvPicPr/>
          <p:nvPr/>
        </p:nvPicPr>
        <p:blipFill>
          <a:blip r:embed="rId1"/>
          <a:stretch/>
        </p:blipFill>
        <p:spPr>
          <a:xfrm>
            <a:off x="2971800" y="1295280"/>
            <a:ext cx="2984400" cy="51818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590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На пороге появился мальчишка. Он был бы совсем обыкновенным, этот мальчишка, если бы он не был необыкновенно растрёпанным и чумазым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воечник Ди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сканирование0015"/>
          <p:cNvPicPr/>
          <p:nvPr/>
        </p:nvPicPr>
        <p:blipFill>
          <a:blip r:embed="rId1"/>
          <a:stretch/>
        </p:blipFill>
        <p:spPr>
          <a:xfrm>
            <a:off x="2971800" y="1295280"/>
            <a:ext cx="3192480" cy="5029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123" name="gudok_parovoza.mp3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43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Песнегра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ukraschenie_4"/>
          <p:cNvPicPr/>
          <p:nvPr/>
        </p:nvPicPr>
        <p:blipFill>
          <a:blip r:embed="rId1"/>
          <a:stretch/>
        </p:blipFill>
        <p:spPr>
          <a:xfrm>
            <a:off x="3276720" y="3429000"/>
            <a:ext cx="50576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2" descr="__________4cbdeeb4ba512"/>
          <p:cNvPicPr/>
          <p:nvPr/>
        </p:nvPicPr>
        <p:blipFill>
          <a:blip r:embed="rId1"/>
          <a:stretch/>
        </p:blipFill>
        <p:spPr>
          <a:xfrm>
            <a:off x="1676520" y="914400"/>
            <a:ext cx="5562360" cy="50734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127" name="Чебурашка плюс.mp3" descr=""/>
          <p:cNvPicPr/>
          <p:nvPr/>
        </p:nvPicPr>
        <p:blipFill>
          <a:blip r:embed="rId2"/>
          <a:stretch/>
        </p:blipFill>
        <p:spPr>
          <a:xfrm>
            <a:off x="457200" y="5791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7465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8" descr="ph1"/>
          <p:cNvPicPr/>
          <p:nvPr/>
        </p:nvPicPr>
        <p:blipFill>
          <a:blip r:embed="rId1"/>
          <a:stretch/>
        </p:blipFill>
        <p:spPr>
          <a:xfrm>
            <a:off x="1523880" y="1676520"/>
            <a:ext cx="6370920" cy="4778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-511560"/>
            <a:ext cx="84582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песня Шапокляк.mp3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136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132" name="gudok_parovoza.mp3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gudok_parovoza.mp3" descr=""/>
          <p:cNvPicPr/>
          <p:nvPr/>
        </p:nvPicPr>
        <p:blipFill>
          <a:blip r:embed="rId3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4" name="gudok_parovoza.mp3" descr=""/>
          <p:cNvPicPr/>
          <p:nvPr/>
        </p:nvPicPr>
        <p:blipFill>
          <a:blip r:embed="rId4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243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243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24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ff962c65118d"/>
          <p:cNvPicPr/>
          <p:nvPr/>
        </p:nvPicPr>
        <p:blipFill>
          <a:blip r:embed="rId1"/>
          <a:stretch/>
        </p:blipFill>
        <p:spPr>
          <a:xfrm>
            <a:off x="5638680" y="1219320"/>
            <a:ext cx="3208320" cy="44956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533520" y="2437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Город Знатоко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дуард Николаевич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пе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520" y="1981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Родилс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22 декабря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1937 года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в Московской области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000000"/>
                </a:solidFill>
                <a:latin typeface="Arial"/>
              </a:rPr>
              <a:t>Кто он?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657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1. Что делал Чебурашка около большого фруктового сада</a:t>
            </a: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на ящиках с апельсинами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42640" y="2742840"/>
            <a:ext cx="75438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завтракал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обедал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ужинал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5200" spc="-1" strike="noStrike">
                <a:solidFill>
                  <a:srgbClr val="000000"/>
                </a:solidFill>
                <a:latin typeface="Arial"/>
              </a:rPr>
              <a:t>Где работал Чебурашка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905120"/>
            <a:ext cx="876312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в магазине игрушек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в магазине уценённых            товаров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в магазине одежды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3. Сколько лет крокодилу Гене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2101320"/>
            <a:ext cx="777240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. Во что любил играть сам</a:t>
            </a: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   с собой крокодил Гена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95280" y="2514240"/>
            <a:ext cx="731520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шахматы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морской бой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крестики -нолики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5. На чём готовил кофе Гена в гостях у Чебурашки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2514240"/>
            <a:ext cx="777240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на плите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на костре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в микроволновке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8534520" cy="207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. Какую роль исполнял кроко- дил Гена в детском спектакл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2438280"/>
            <a:ext cx="7543800" cy="38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бабушка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Красная Шапочка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. Любимое животное старухи Шапокля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360" y="2361960"/>
            <a:ext cx="38862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кры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хомя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8. Какая фамилия была у известного доктора, к которому побежала Шапокляк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47560" y="2514240"/>
            <a:ext cx="419076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Иванов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Петров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Сидоров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9. Кого просил в друзья     двоечник Дима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47560" y="2362320"/>
            <a:ext cx="518148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отличника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троечника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двоечника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. Что сделал Гена, чтобы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го не узнавали на строй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243792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надел парик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надел маску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надел новый костюм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276720" cy="11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льч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32000" y="6091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маленького Эдика была любимая игруш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ши – большие, хвост пуговкой, не поймешь, не то заяц, не то соба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ом, неизвестный науке зверь, названный позже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Чебурашк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38040" y="1752480"/>
            <a:ext cx="37339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4678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11. За сколько секунд Шапокляк забралась на вершину дерева, убегая от носорога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71600" y="2742840"/>
            <a:ext cx="502920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5 секунд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10 секунд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15 секунд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. Сколько времени висела старуха Шапокляк на дерев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9320" y="2590920"/>
            <a:ext cx="403848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2 ча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3 ча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4 ча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162" name="gudok_parovoza.mp3" descr=""/>
          <p:cNvPicPr/>
          <p:nvPr/>
        </p:nvPicPr>
        <p:blipFill>
          <a:blip r:embed="rId2"/>
          <a:stretch/>
        </p:blipFill>
        <p:spPr>
          <a:xfrm>
            <a:off x="228600" y="5943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243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419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Город Художник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0_8d6d9_1e2f0f91_orig"/>
          <p:cNvPicPr/>
          <p:nvPr/>
        </p:nvPicPr>
        <p:blipFill>
          <a:blip r:embed="rId1"/>
          <a:stretch/>
        </p:blipFill>
        <p:spPr>
          <a:xfrm rot="20110200">
            <a:off x="5029200" y="-152280"/>
            <a:ext cx="30160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9" descr="сканирование0003 (2)"/>
          <p:cNvPicPr/>
          <p:nvPr/>
        </p:nvPicPr>
        <p:blipFill>
          <a:blip r:embed="rId1"/>
          <a:stretch/>
        </p:blipFill>
        <p:spPr>
          <a:xfrm>
            <a:off x="1905120" y="380880"/>
            <a:ext cx="5483160" cy="6050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66" name="usatyi_nyan_-_vstupitelnaya_tema.mp3" descr=""/>
          <p:cNvPicPr/>
          <p:nvPr/>
        </p:nvPicPr>
        <p:blipFill>
          <a:blip r:embed="rId2"/>
          <a:stretch/>
        </p:blipFill>
        <p:spPr>
          <a:xfrm>
            <a:off x="53352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4381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168" name="gudok_parovoza.mp3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2243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1337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0"/>
            </a:br>
            <a:br>
              <a:rPr sz="11000"/>
            </a:br>
            <a:r>
              <a:rPr b="1" lang="ru-RU" sz="11000" spc="-1" strike="noStrike">
                <a:solidFill>
                  <a:srgbClr val="ff0000"/>
                </a:solidFill>
                <a:latin typeface="Arial"/>
              </a:rPr>
              <a:t>Правила</a:t>
            </a:r>
            <a:br>
              <a:rPr sz="11000"/>
            </a:br>
            <a:r>
              <a:rPr b="1" lang="ru-RU" sz="11000" spc="-1" strike="noStrike">
                <a:solidFill>
                  <a:srgbClr val="ff0000"/>
                </a:solidFill>
                <a:latin typeface="Arial"/>
              </a:rPr>
              <a:t>Д </a:t>
            </a:r>
            <a:r>
              <a:rPr b="1" lang="ru-RU" sz="11000" spc="-1" strike="noStrike">
                <a:solidFill>
                  <a:srgbClr val="3333cc"/>
                </a:solidFill>
                <a:latin typeface="Arial"/>
              </a:rPr>
              <a:t>Р </a:t>
            </a:r>
            <a:r>
              <a:rPr b="1" lang="ru-RU" sz="11000" spc="-1" strike="noStrike">
                <a:solidFill>
                  <a:srgbClr val="ff9900"/>
                </a:solidFill>
                <a:latin typeface="Arial"/>
              </a:rPr>
              <a:t>У </a:t>
            </a:r>
            <a:r>
              <a:rPr b="1" lang="ru-RU" sz="11000" spc="-1" strike="noStrike">
                <a:solidFill>
                  <a:srgbClr val="33cc33"/>
                </a:solidFill>
                <a:latin typeface="Arial"/>
              </a:rPr>
              <a:t>Ж </a:t>
            </a:r>
            <a:r>
              <a:rPr b="1" lang="ru-RU" sz="11000" spc="-1" strike="noStrike">
                <a:solidFill>
                  <a:srgbClr val="6600cc"/>
                </a:solidFill>
                <a:latin typeface="Arial"/>
              </a:rPr>
              <a:t>Б </a:t>
            </a:r>
            <a:r>
              <a:rPr b="1" lang="ru-RU" sz="11000" spc="-1" strike="noStrike">
                <a:solidFill>
                  <a:srgbClr val="a50021"/>
                </a:solidFill>
                <a:latin typeface="Arial"/>
              </a:rPr>
              <a:t>Ы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905120" y="682200"/>
            <a:ext cx="4647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Calibri"/>
              </a:rPr>
              <a:t>Помогать друг дру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Calibri"/>
              </a:rPr>
              <a:t>Работать сооб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Calibri"/>
              </a:rPr>
              <a:t>Уметь договарив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Calibri"/>
              </a:rPr>
              <a:t>Умение радоваться вместе с друзь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Новые приключения др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533520" y="134136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«Крокодил Гена и его друзь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«Бизнес крокодила Ген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«Отпуск крокодила Гены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«Крокодил Гена – лейтенант милиции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«Чебурашка уходит в народ»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«Похищение Чебурашки»</a:t>
            </a: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174" name="gudok_parovoza.mp3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2243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едём итог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стигли ли мы цели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ить себя, как я понял прочита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узнать о писателе са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бедить других ребят, кто ещё не прочитал эти книги обязательно их про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чени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81280" y="456840"/>
            <a:ext cx="54165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 Эдик озорным мальчиком и получал плохие отмет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 двоечником быть не хотел, в глубине души он хотел стать академиком или минист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048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7"/>
          <p:cNvPicPr/>
          <p:nvPr/>
        </p:nvPicPr>
        <p:blipFill>
          <a:blip r:embed="rId1"/>
          <a:stretch/>
        </p:blipFill>
        <p:spPr>
          <a:xfrm>
            <a:off x="1073160" y="3048120"/>
            <a:ext cx="8070840" cy="3809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тешествие на литературном поезде  по книг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дуарда Успенского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Крокодил Ге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его друзь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2767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нжен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33560" y="380520"/>
            <a:ext cx="55688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н так упорно занимался, что смог поступить в авиа-ционный институт и стать инжене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и года прорабо-тал по специаль-ности, но понял, что делает не свое де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657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34290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Юморист - пис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81280" y="304920"/>
            <a:ext cx="55627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женер Успенский решил стать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взрослым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морист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потом быстро переквалифициро-вался и стал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детским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ател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362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33530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80920" y="380520"/>
            <a:ext cx="54104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В одном городе жил крокодил по имени Гена, а работал он в зоопарке крокодилом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ак в 1966 году появилась книга «Крокодил Гена и его друзья», прославившая писате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6576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8:58:26Z</dcterms:created>
  <dc:creator>User</dc:creator>
  <dc:description/>
  <dc:language>en-US</dc:language>
  <cp:lastModifiedBy>Пользователь Windows</cp:lastModifiedBy>
  <dcterms:modified xsi:type="dcterms:W3CDTF">2021-07-22T06:50:59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